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96D-0133-49C1-8E93-E911F04E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e disadvantage is in debugging: if a servlet translated from a JSP document throws an exception to the server, the exception will refer to the serv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de and not to the original JSP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AB5-3FC3-4337-B3A9-EECC949C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F8-8EFD-413D-9EE3-5449117B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13D-535C-42C5-A0B0-67F3097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C9F-EED4-455A-A09E-B6276AC0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7FE-3244-45C5-B95E-66784FA9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5A2-D3EA-4A64-97BF-B20460F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4B3-9B3F-4BEE-A417-B54315A6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929-031A-404A-9D08-AF9F423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672-EF4D-4F1B-B261-7EEB1A1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12A-CE65-4F1D-B857-A977183E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448-709C-42F2-8093-DF64751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8FB-0F7E-4517-812F-A100641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DF2-B153-461E-B372-62C333E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00DB-95ED-4E1C-805D-19E0BDDB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parating Programming and Presentatio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SP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159680" cy="5062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600200" y="1828800"/>
            <a:ext cx="5257800" cy="7621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mplat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ike XSLT, this is the HTML and character data portion of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cript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ava code embedded i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often used in older (non-XML) JSP pages, we will avoid scriptl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se (shown here) is to add comments that will not be output to the generate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159680" cy="5062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1600200" y="2590920"/>
            <a:ext cx="6324480" cy="99036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tag library supports simpl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ue if variable is non-existent or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pplication 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that the variable is accessible by other JSP documents, other users (s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documents are not execut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JSP document is first visited, webserver (e.g. Tomc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he JSP document to a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s the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let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provide traceback information for the servl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SP-generated servlet has a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_jspServic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ather than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Pos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begins by automatically creating a number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licit 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that can be accessed by scrip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543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emplat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lets are copied as-is to serv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3956040" cy="14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50562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ptlets can be written to use the implicit Java object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void this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feats the separation purpose of J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ncorporate Java more cleanly using JavaBeans technology and tag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6735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elements translat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{visits} in template code translates to out.write() of value of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84400" y="2590920"/>
            <a:ext cx="6643440" cy="37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7620120" cy="1011240"/>
          </a:xfrm>
          <a:prstGeom prst="rect">
            <a:avLst/>
          </a:prstGeom>
          <a:ln w="0">
            <a:noFill/>
          </a:ln>
        </p:spPr>
      </p:pic>
      <p:sp>
        <p:nvSpPr>
          <p:cNvPr id="113" name="Oval 6"/>
          <p:cNvSpPr/>
          <p:nvPr/>
        </p:nvSpPr>
        <p:spPr>
          <a:xfrm>
            <a:off x="5638680" y="2590920"/>
            <a:ext cx="17528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869440" y="2209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P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app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sources that are used together to implement some web-ba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rvlets (including JSP-gene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ources: HTML documents, style sheets, JavaScript, images, non-servlet Java class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JS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/CGI approach: server-side code is a program with HTML 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vaServer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PHP/ASP/ColdFusion) approach: server-side “code” is a document with program 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leaner separation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gram log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sion of la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developers and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${visits+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of 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L 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bedded in a JSP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{…} is the syntax used in JSP documents to mark the contained string as an E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 expression ca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mplat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aluates to Java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part of) the value of certain JSP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aluates to data type that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ter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“Ahm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li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mal integer, floating point, scientific-notation numeric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s (single- or double-quo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ble n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ike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ntain letters, digits, _ ,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gin with a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reser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693432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quivalents: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quivalents: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inary and unary)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d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rg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empty string/array/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?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access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[ 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object n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es for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tomatic type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or + is like other binary arithmetic operators (+ 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string concatenatio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similar to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/List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L scoped variabl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rra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java.util.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EL scoped variabl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cast to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n access elements of aVar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r[inde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r.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TL Core actions are designed to be used for </a:t>
            </a:r>
            <a:r>
              <a:rPr b="0" lang="en-US" sz="2800" spc="-1" strike="noStrike" u="sng">
                <a:solidFill>
                  <a:srgbClr val="339933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sentation-oriented programm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more </a:t>
            </a:r>
            <a:r>
              <a:rPr b="0" lang="en-US" sz="2800" spc="-1" strike="noStrike" u="sng">
                <a:solidFill>
                  <a:srgbClr val="339933"/>
                </a:solidFill>
                <a:uFillTx/>
                <a:latin typeface="Arial"/>
              </a:rPr>
              <a:t>complicated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tasks are to be performed; java methods should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avaB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ology allows a JSP document to call Java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 JavaBeans class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 property design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(defined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5638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JavaBeans class in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019920" cy="348624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3200400" y="228600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581280" y="487692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733920" y="2666880"/>
            <a:ext cx="228600" cy="22100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JavaBeans class as sh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ust hav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-argument)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instantiated by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use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supplied by Java in this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of a JavaBeans class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57" name="Oval 4"/>
          <p:cNvSpPr/>
          <p:nvPr/>
        </p:nvSpPr>
        <p:spPr>
          <a:xfrm>
            <a:off x="838080" y="1447920"/>
            <a:ext cx="762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perty 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 getter and s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quire that the method b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begins with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return type is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llowed by upper cas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rgument (same type as setter return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begins with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ed by upper cas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setter from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105520" cy="88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80773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perty design pattern methods associ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ean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me of bean property obtained by removing get/is/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prefix and following the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maining name begins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or more upper case let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an property name is remaining name: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set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Sans Typewriter"/>
              </a:rPr>
              <a:t>AV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alue(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A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maining name begins with a single upper case letter, bean property name is remaining name with this letter converted to lower cas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getWelcome(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4465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43000" y="2077920"/>
            <a:ext cx="7086600" cy="327024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1371600" y="464832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567960" y="460836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tPaym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 apps are based on the Model-View-Controller (MVC) architectur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JSP implementation of 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219320" y="4343400"/>
            <a:ext cx="2209680" cy="10666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va serv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429000" y="3124080"/>
            <a:ext cx="2438280" cy="990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ans, DB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2514600" y="41144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334120" y="4343400"/>
            <a:ext cx="2209680" cy="990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SP docu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2286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349000" y="53704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2900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5029200" y="41144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092560" y="5370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roo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HTML-generating tools, such as Mozilla Composer, to create the HTML portions of th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can generate other XML document typ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1066680" y="1828800"/>
            <a:ext cx="449604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(basic elements, normal prefix j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JSP Standard Tag Library (JST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fix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ag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eans of adding functionality beyond basic 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TL included in with JWSDP 1.3 version of Tom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TL provides tag libraries in addition to core (mor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1066680" y="2514600"/>
            <a:ext cx="7162920" cy="15238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irective.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ypical use to set HTTP response header field, as shown (default is text/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imilar to XSLT output element (controls XML and document type decla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5:21:49Z</dcterms:created>
  <dc:creator>Duquesne University</dc:creator>
  <dc:description/>
  <dc:language>en-US</dc:language>
  <cp:lastModifiedBy>user</cp:lastModifiedBy>
  <dcterms:modified xsi:type="dcterms:W3CDTF">2017-09-29T11:24:30Z</dcterms:modified>
  <cp:revision>39</cp:revision>
  <dc:subject/>
  <dc:title>Chapter 8 Separating Programming and Presentation: JSP Technology</dc:title>
</cp:coreProperties>
</file>